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7FB-7D5D-40E0-A36D-78CF289C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D45-2CDF-4DE1-B58F-44699F9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691-A73C-40D8-B3A2-75226F35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E39-7D2A-4F7C-AD00-E7F049E5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4DB-B927-43D6-9C06-ECF84301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346-BF30-4C71-BDDE-DCB086A9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1D6-DA5D-4920-8D18-0BB06CB2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B9C-76C9-412B-857A-C49B2E4E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524-EBAC-4CA9-8396-EB4F1061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8D5-C84D-4C4F-B02B-A205CF0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65B-8875-4390-BD98-CC8E0BD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EB1-59E9-4EFE-A6DD-29F323D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CCD9-CCDC-4F12-B8F0-F4898524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4343400"/>
            <a:ext cx="32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urlz MT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urlz MT"/>
              </a:rPr>
              <a:t>4-2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urlz MT"/>
              </a:rPr>
              <a:t>Perio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447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pple Computer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9112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shing You Farewel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7, 2010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cc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Jobs and Wozniak"/>
          <p:cNvPicPr/>
          <p:nvPr/>
        </p:nvPicPr>
        <p:blipFill>
          <a:blip r:embed="rId1"/>
          <a:stretch/>
        </p:blipFill>
        <p:spPr>
          <a:xfrm>
            <a:off x="1828800" y="609480"/>
            <a:ext cx="4800600" cy="147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2743200"/>
            <a:ext cx="58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Lobs and Steve Wozniak invented Apple Compu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2670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eve Jobs and Steve Wozni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 2010, http://inventors.about.com/gi/o.htm?zi=1/XJ&amp;zTi=1&amp;sdn=inventors&amp;cdn=money&amp;tm=6&amp;gps=467_245_1131_688&amp;f=00&amp;tt=2&amp;bt=1&amp;bts=1&amp;zu=http%3A//web.mit.edu/invent/iow/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Broadway"/>
              </a:rPr>
              <a:t>Invention: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ppl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6699"/>
                </a:solidFill>
                <a:latin typeface="Broadway"/>
              </a:rPr>
              <a:t>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Broadway"/>
              </a:rPr>
              <a:t>First 50 machines sold to a dealer called the Byte Shop in Mountain View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Dubbed “Apple Is”, the computer sold for $666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Broadway"/>
              </a:rPr>
              <a:t>First single-board computers with onboard Read Only Memory or 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n 1977, Apple II was introduced which included color graphics and which housed its electronics inside a plastic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Broadway"/>
              </a:rPr>
              <a:t>Apple Computer went public in 1980, making its founders multi-million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ccff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oadway"/>
              </a:rPr>
              <a:t>Inventor: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Broadway"/>
              </a:rPr>
              <a:t>Ste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oadway"/>
              </a:rPr>
              <a:t>Jobs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Broadway"/>
              </a:rPr>
              <a:t>&amp;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oadway"/>
              </a:rPr>
              <a:t>Ste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Broadway"/>
              </a:rPr>
              <a:t>Wozni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roadway"/>
              </a:rPr>
              <a:t>Steve Jobs was born on Feb.24,1955 In San Franc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roadway"/>
              </a:rPr>
              <a:t>He was adopted by a couple and was raised in Los Altos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roadway"/>
              </a:rPr>
              <a:t>Went to Reed College in Portland, Oreg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roadway"/>
              </a:rPr>
              <a:t>Steve Wozniak was born on Aug.11,1959 in San Jose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roadway"/>
              </a:rPr>
              <a:t>He left the University of California at Berkley before he finished his degree, to go to work for Hewlett-Pack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10:12Z</dcterms:created>
  <dc:creator>install</dc:creator>
  <dc:description/>
  <dc:language>en-US</dc:language>
  <cp:lastModifiedBy>install</cp:lastModifiedBy>
  <dcterms:modified xsi:type="dcterms:W3CDTF">2010-05-12T13:12:45Z</dcterms:modified>
  <cp:revision>6</cp:revision>
  <dc:subject/>
  <dc:title>Slide 1</dc:title>
</cp:coreProperties>
</file>